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A6E4-9B7E-4198-9C11-C5A519E29DB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40CD-9AB6-48AB-B275-E32BA5101D37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13D3-1D31-4382-9EE3-8AFB5E86F7C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3B84-9203-4B93-9EC6-9131428A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DD2E-BB30-4855-BB4E-76CDFCF4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F984-480E-494B-B2AE-BD353C26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9A42-CE20-4F31-9772-274AA58E5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310F-889C-4DCF-98EF-1374DE0D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33DF-CED8-49F1-9A5C-13CE6CA2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9B49-5F49-47BE-B72D-46E381C1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3954-16C8-42BD-B839-DDC18980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2314-D2A1-46F0-BA6E-71A83531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7D6E-E05D-4514-9406-8E108B32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6065-F2DF-49D1-8F8E-369D1EF8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AACE-10DB-4312-BC75-CE9271FF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E733-988D-4BCF-9537-CDD29BA5D8F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그림 1" descr=""/>
          <p:cNvPicPr/>
          <p:nvPr/>
        </p:nvPicPr>
        <p:blipFill>
          <a:blip r:embed="rId1"/>
          <a:stretch/>
        </p:blipFill>
        <p:spPr>
          <a:xfrm>
            <a:off x="5880240" y="1225440"/>
            <a:ext cx="2477880" cy="4619880"/>
          </a:xfrm>
          <a:prstGeom prst="rect">
            <a:avLst/>
          </a:prstGeom>
          <a:ln w="0">
            <a:noFill/>
          </a:ln>
        </p:spPr>
      </p:pic>
      <p:pic>
        <p:nvPicPr>
          <p:cNvPr id="62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3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5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직사각형 29"/>
          <p:cNvSpPr/>
          <p:nvPr/>
        </p:nvSpPr>
        <p:spPr>
          <a:xfrm>
            <a:off x="0" y="422280"/>
            <a:ext cx="4406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9920" y="996840"/>
            <a:ext cx="4533840" cy="31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- 435*316*113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1.5</a:t>
            </a: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층 침대용 철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BODY : 15x35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20x20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사각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/ 1.6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직선 연결선 32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33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LADDER &lt;DIL3004B-1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인용 사다리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선 연결선 34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사각형 3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1:16Z</dcterms:modified>
  <cp:revision>254</cp:revision>
  <dc:subject/>
  <dc:title>슬라이드 1</dc:title>
</cp:coreProperties>
</file>